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10.jpeg" ContentType="image/jpeg"/>
  <Override PartName="/ppt/media/image6.jpeg" ContentType="image/jpeg"/>
  <Override PartName="/ppt/media/image11.jpeg" ContentType="image/jpeg"/>
  <Override PartName="/ppt/media/image7.jpeg" ContentType="image/jpeg"/>
  <Override PartName="/ppt/media/image8.jpeg" ContentType="image/jpeg"/>
  <Override PartName="/ppt/media/image9.jpeg" ContentType="image/jpeg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3.xml" ContentType="application/vnd.openxmlformats-officedocument.presentationml.slide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30.xml.rels" ContentType="application/vnd.openxmlformats-package.relationships+xml"/>
  <Override PartName="/ppt/slides/_rels/slide29.xml.rels" ContentType="application/vnd.openxmlformats-package.relationships+xml"/>
  <Override PartName="/ppt/slides/_rels/slide6.xml.rels" ContentType="application/vnd.openxmlformats-package.relationships+xml"/>
  <Override PartName="/ppt/slides/_rels/slide34.xml.rels" ContentType="application/vnd.openxmlformats-package.relationships+xml"/>
  <Override PartName="/ppt/slides/_rels/slide20.xml.rels" ContentType="application/vnd.openxmlformats-package.relationships+xml"/>
  <Override PartName="/ppt/slides/_rels/slide35.xml.rels" ContentType="application/vnd.openxmlformats-package.relationships+xml"/>
  <Override PartName="/ppt/slides/_rels/slide1.xml.rels" ContentType="application/vnd.openxmlformats-package.relationships+xml"/>
  <Override PartName="/ppt/slides/_rels/slide7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10.xml.rels" ContentType="application/vnd.openxmlformats-package.relationships+xml"/>
  <Override PartName="/ppt/slides/_rels/slide25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24.xml.rels" ContentType="application/vnd.openxmlformats-package.relationships+xml"/>
  <Override PartName="/ppt/slides/_rels/slide33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27.xml.rels" ContentType="application/vnd.openxmlformats-package.relationships+xml"/>
  <Override PartName="/ppt/slides/_rels/slide8.xml.rels" ContentType="application/vnd.openxmlformats-package.relationships+xml"/>
  <Override PartName="/ppt/slides/_rels/slide2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2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slide30.xml" ContentType="application/vnd.openxmlformats-officedocument.presentationml.slide+xml"/>
  <Override PartName="/ppt/slides/slide31.xml" ContentType="application/vnd.openxmlformats-officedocument.presentationml.slide+xml"/>
  <Override PartName="/ppt/slides/slide32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33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34.xml" ContentType="application/vnd.openxmlformats-officedocument.presentationml.slide+xml"/>
  <Override PartName="/ppt/slides/slide35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  <p:sldId id="275" r:id="rId22"/>
    <p:sldId id="276" r:id="rId23"/>
    <p:sldId id="277" r:id="rId24"/>
    <p:sldId id="278" r:id="rId25"/>
    <p:sldId id="279" r:id="rId26"/>
    <p:sldId id="280" r:id="rId27"/>
    <p:sldId id="281" r:id="rId28"/>
    <p:sldId id="282" r:id="rId29"/>
    <p:sldId id="283" r:id="rId30"/>
    <p:sldId id="284" r:id="rId31"/>
    <p:sldId id="285" r:id="rId32"/>
    <p:sldId id="286" r:id="rId33"/>
    <p:sldId id="287" r:id="rId34"/>
    <p:sldId id="288" r:id="rId35"/>
    <p:sldId id="289" r:id="rId36"/>
    <p:sldId id="290" r:id="rId3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slide" Target="slides/slide20.xml"/><Relationship Id="rId23" Type="http://schemas.openxmlformats.org/officeDocument/2006/relationships/slide" Target="slides/slide21.xml"/><Relationship Id="rId24" Type="http://schemas.openxmlformats.org/officeDocument/2006/relationships/slide" Target="slides/slide22.xml"/><Relationship Id="rId25" Type="http://schemas.openxmlformats.org/officeDocument/2006/relationships/slide" Target="slides/slide23.xml"/><Relationship Id="rId26" Type="http://schemas.openxmlformats.org/officeDocument/2006/relationships/slide" Target="slides/slide24.xml"/><Relationship Id="rId27" Type="http://schemas.openxmlformats.org/officeDocument/2006/relationships/slide" Target="slides/slide25.xml"/><Relationship Id="rId28" Type="http://schemas.openxmlformats.org/officeDocument/2006/relationships/slide" Target="slides/slide26.xml"/><Relationship Id="rId29" Type="http://schemas.openxmlformats.org/officeDocument/2006/relationships/slide" Target="slides/slide27.xml"/><Relationship Id="rId30" Type="http://schemas.openxmlformats.org/officeDocument/2006/relationships/slide" Target="slides/slide28.xml"/><Relationship Id="rId31" Type="http://schemas.openxmlformats.org/officeDocument/2006/relationships/slide" Target="slides/slide29.xml"/><Relationship Id="rId32" Type="http://schemas.openxmlformats.org/officeDocument/2006/relationships/slide" Target="slides/slide30.xml"/><Relationship Id="rId33" Type="http://schemas.openxmlformats.org/officeDocument/2006/relationships/slide" Target="slides/slide31.xml"/><Relationship Id="rId34" Type="http://schemas.openxmlformats.org/officeDocument/2006/relationships/slide" Target="slides/slide32.xml"/><Relationship Id="rId35" Type="http://schemas.openxmlformats.org/officeDocument/2006/relationships/slide" Target="slides/slide33.xml"/><Relationship Id="rId36" Type="http://schemas.openxmlformats.org/officeDocument/2006/relationships/slide" Target="slides/slide34.xml"/><Relationship Id="rId37" Type="http://schemas.openxmlformats.org/officeDocument/2006/relationships/slide" Target="slides/slide35.xml"/><Relationship Id="rId3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8A00F-0A12-4D6A-8D4A-CB037AB697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2BCB74-BA0F-4270-B31C-EB7A744F90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2C9EC-D619-4045-B17B-99C08993DE5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28FE92-8499-40B1-8D7E-564943E4FCC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9DE0D-7A0E-44D9-8E49-0841904CFA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7398B-1599-4A56-9241-D59B176C0A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C7E03D-7300-4C1B-B253-2DB4B2B68C9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756B6-3EA4-46DD-9CF5-8C8C73FABA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004B3-FA68-432C-A772-3BE2A4F6D7B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0CB87F-788A-4797-B33F-19940CA23D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88F870-9D2F-43A8-A73A-973D499CC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6953C-AA56-44F6-B986-CD8772F66EA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9B04F1-E9C0-4C67-9480-D2B566874367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image" Target="../media/image9.jpeg"/><Relationship Id="rId2" Type="http://schemas.openxmlformats.org/officeDocument/2006/relationships/slideLayout" Target="../slideLayouts/slideLayout1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ider this . . .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304560" y="1447560"/>
            <a:ext cx="4647960" cy="5257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8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Is your society’s view of </a:t>
            </a:r>
            <a:r>
              <a:rPr b="0" i="1" lang="en-US" sz="2800" spc="-1" strike="noStrike">
                <a:solidFill>
                  <a:srgbClr val="000000"/>
                </a:solidFill>
                <a:latin typeface="Arial"/>
              </a:rPr>
              <a:t>god 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one of perfection or imperfection?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For example, is y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(dess)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all-powerful, all-knowing, all-good, or any combination of these three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If not, what are your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(s)’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limi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y would a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have limitations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What characteristics of your culture are captured in the imperfection of its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go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?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43" name="Picture 10" descr="2-God"/>
          <p:cNvPicPr/>
          <p:nvPr/>
        </p:nvPicPr>
        <p:blipFill>
          <a:blip r:embed="rId1"/>
          <a:stretch/>
        </p:blipFill>
        <p:spPr>
          <a:xfrm>
            <a:off x="5334120" y="1523880"/>
            <a:ext cx="3384360" cy="4525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8" name="Picture 5" descr="defense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my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creation myth should follow the general format of a myth </a:t>
            </a:r>
            <a:r>
              <a:rPr b="0" i="1" lang="en-US" sz="3200" spc="-1" strike="noStrike">
                <a:solidFill>
                  <a:srgbClr val="bbe0e3"/>
                </a:solidFill>
                <a:latin typeface="Arial"/>
              </a:rPr>
              <a:t>and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include an explanation of basic human behavi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Creation myths are sometimes used to explain the separation between the </a:t>
            </a:r>
            <a:r>
              <a:rPr b="0" i="1" lang="en-US" sz="3200" spc="-1" strike="noStrike">
                <a:solidFill>
                  <a:srgbClr val="bbe0e3"/>
                </a:solidFill>
                <a:latin typeface="Arial"/>
              </a:rPr>
              <a:t>god(s)</a:t>
            </a: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 and man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andora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ometheu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1" name="Picture 5" descr="age_ofthe_earth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Jungia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Carl Jung developed the idea of the archetype a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ecurring patterns of behavior and situations among people of diverse backgrounds and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Jung believed that archetypes transcend time and geography because they are part of the </a:t>
            </a:r>
            <a:r>
              <a:rPr b="1" i="1" lang="en-US" sz="3200" spc="-1" strike="noStrike">
                <a:solidFill>
                  <a:srgbClr val="000000"/>
                </a:solidFill>
                <a:latin typeface="Arial"/>
              </a:rPr>
              <a:t>collective consciousness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shared by all human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4" name="Picture 5" descr="4b-Adam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228600"/>
            <a:ext cx="8686800" cy="6362640"/>
          </a:xfrm>
          <a:prstGeom prst="rect">
            <a:avLst/>
          </a:prstGeom>
          <a:ln w="0">
            <a:noFill/>
          </a:ln>
        </p:spPr>
      </p:pic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Joseph Campbell’s </a:t>
            </a:r>
            <a:br>
              <a:rPr sz="4000"/>
            </a:br>
            <a:r>
              <a:rPr b="1" lang="en-US" sz="4000" spc="-1" strike="noStrike">
                <a:solidFill>
                  <a:srgbClr val="000000"/>
                </a:solidFill>
                <a:latin typeface="Arial"/>
              </a:rPr>
              <a:t>Literary Archetypes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2331720"/>
            <a:ext cx="8229600" cy="3459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ampbell used Jung’s theories to identify archetypal elements in history and literature. Campbell’s archetypes are: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recurring patterns of images, situations, symbols, metaphors, and characters found in the mythology, religion, art, and dreams  of cultures around the world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7" name="Picture 5" descr="fossils"/>
          <p:cNvPicPr/>
          <p:nvPr/>
        </p:nvPicPr>
        <p:blipFill>
          <a:blip r:embed="rId1"/>
          <a:stretch/>
        </p:blipFill>
        <p:spPr>
          <a:xfrm>
            <a:off x="380880" y="30492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457200" y="2282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he Creation Archetype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Rectangle 6"/>
          <p:cNvSpPr/>
          <p:nvPr/>
        </p:nvSpPr>
        <p:spPr>
          <a:xfrm>
            <a:off x="609480" y="1217520"/>
            <a:ext cx="7925040" cy="527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Primordial ‘soup’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Noth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</a:t>
            </a:r>
            <a:r>
              <a:rPr b="1" i="1" lang="en-US" sz="2000" spc="-1" strike="noStrike">
                <a:solidFill>
                  <a:srgbClr val="000000"/>
                </a:solidFill>
                <a:latin typeface="Arial"/>
              </a:rPr>
              <a:t>Deus Fab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Clay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Dismemberment of Primordial Bein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Sacrifi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Secreti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Thought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Wo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Trial and Erro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Cosmic Egg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Division of Primordial Unity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Chao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by Emerg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from Ancestor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Arial"/>
              </a:rPr>
              <a:t>Creation in Science 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0" name="Picture 5" descr="human_origin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Primordial Soup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PRIMORDIAL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omething exists, and then out of this something new is mad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begins with water, chaos, darkness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Modern evolutionary theory and ‘Big Bang’ theories use this base to explain their belief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3" name="Picture 8" descr="astronomy"/>
          <p:cNvPicPr/>
          <p:nvPr/>
        </p:nvPicPr>
        <p:blipFill>
          <a:blip r:embed="rId1"/>
          <a:stretch/>
        </p:blipFill>
        <p:spPr>
          <a:xfrm>
            <a:off x="304920" y="228600"/>
            <a:ext cx="8458200" cy="6343560"/>
          </a:xfrm>
          <a:prstGeom prst="rect">
            <a:avLst/>
          </a:prstGeom>
          <a:ln w="0">
            <a:noFill/>
          </a:ln>
        </p:spPr>
      </p:pic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from Noth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457200" y="2285640"/>
            <a:ext cx="8229600" cy="4267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or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de novo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 = 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from nothing. 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De novo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Particularly popular in monotheistic religion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n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 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yths the god figure creates the universe from nothing, by thought, word, or breath.  Sometimes secretion is used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Greek, Hebrew, Indian, Mayan, Maor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6" name="Picture 8" descr="biblical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</a:t>
            </a:r>
            <a:r>
              <a:rPr b="0" i="1" lang="en-US" sz="4400" spc="-1" strike="noStrike">
                <a:solidFill>
                  <a:srgbClr val="bbe0e3"/>
                </a:solidFill>
                <a:latin typeface="Arial"/>
              </a:rPr>
              <a:t>Deus Fa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457200" y="17524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reation by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Deus Faber 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s the fabrication of the world by the Creator in his/her form as an Artist/Craftsme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Uses the analogy or metaphor of a craf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n the Book of Job (34:4-5) Yahweh refers to creation as “laid the foundation of the earth”  and “took its measurements.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is lends to the Hebrew architect image of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God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Hebrew, Huron, Spider Woman, Yuki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89" name="Picture 6" descr="dinosaur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from Clay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an created from clay, the ultimate symbol of the Ea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eing created from earth (clay) exists across many different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Some theorize this is due to the maternal image of the earth.  Others look at the malleability and see an easy creation concep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lackfoot, Hebrew, Dyak, Egyptian, Polynes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2" name="Picture 7" descr="information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Dismembermen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533520" y="2361960"/>
            <a:ext cx="8229600" cy="2895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These myths involve the cosmos being created by cutting up a pre-creation monst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Babylonian, Indian, Rig Veda, Nors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5" name="Picture 6" descr="defense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Sacrifi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reation through the sacrifice of a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Often dealt with as renewal through sacrific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Jesus, Osiris, Attis, and Dionysus all have stories of this type of my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Related heavily to Creation by Dismembermen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4" name="Picture 5" descr="age_ofthe_earth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0" spc="-1" strike="noStrike">
                <a:solidFill>
                  <a:srgbClr val="ffffff"/>
                </a:solidFill>
                <a:latin typeface="Arial"/>
              </a:rPr>
              <a:t>CREATION</a:t>
            </a:r>
            <a:endParaRPr b="0" lang="en-US" sz="8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 type="subTitle"/>
          </p:nvPr>
        </p:nvSpPr>
        <p:spPr>
          <a:xfrm>
            <a:off x="1371600" y="4495320"/>
            <a:ext cx="6400800" cy="1143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ffffff"/>
                </a:solidFill>
                <a:latin typeface="Baskerville Old Face"/>
              </a:rPr>
              <a:t>We’ve all got to start somewhere</a:t>
            </a:r>
            <a:r>
              <a:rPr b="0" i="1" lang="en-US" sz="3200" spc="-1" strike="noStrike">
                <a:solidFill>
                  <a:srgbClr val="ffffff"/>
                </a:solidFill>
                <a:latin typeface="Baskerville Old Face"/>
              </a:rPr>
              <a:t>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Picture 6" descr="age_ofthe_earth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04920" y="17136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Creation by Secretion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Just what it sounds like…creation via bodily fl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Very focused on the ‘divinity’ of life fluid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reator’s bodily fluids:  feces, urine sweat, semen, spit, vomit, and blood are all used in the creation of the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ypically a solitary male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god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fig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antu, Boshongo, Chuckchee, Egypti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1" name="Picture 8" descr="astronomy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Though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reation is a projection of the creator’s thoughts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is theory is hinted at in aboriginal dreaming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Powerful supreme being preexists existence, world contained in the Mind of Go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uddhist, Laguna, Navajo, Winnebag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4" name="Picture 6" descr="biblical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Wor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276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Ex nihil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e Supreme Being speaks the Word and connects Logos or Cosmic Ord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And </a:t>
            </a:r>
            <a:r>
              <a:rPr b="1" i="1" lang="en-US" sz="2800" spc="-1" strike="noStrike">
                <a:solidFill>
                  <a:srgbClr val="bbe0e3"/>
                </a:solidFill>
                <a:latin typeface="Arial"/>
              </a:rPr>
              <a:t>God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 said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Hebrew, Christian, Mayan, Navajo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07" name="Picture 6" descr="fossil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rial and Err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lso thought of as Creation via aborted attempt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nitial attempts to create humanity are unsuccessfu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First Man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through poor or immoral behavior, may cause a fall.  Heavy on instructional moralit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law may be either intentional, or creationa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Often includes a destruction cycle as well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0" name="Picture 5" descr="human_origin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Earth Div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457200" y="16765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Supreme Being sends an animal (duck, turtle into the primal wa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water can often be seen as the unformed female principle, and the diver is the creator’s emissary to the principl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The Diver finds “earth” (sand, mud, rock, etc.) and it is brought to the surfa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Water and descent have key importance in this mythic patter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mmon Native American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3" name="Picture 6" descr="fossil_record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smic Eg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2"/>
          <p:cNvSpPr>
            <a:spLocks noGrp="1"/>
          </p:cNvSpPr>
          <p:nvPr>
            <p:ph/>
          </p:nvPr>
        </p:nvSpPr>
        <p:spPr>
          <a:xfrm>
            <a:off x="380880" y="2057040"/>
            <a:ext cx="8229600" cy="3962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Pre-creation void is a giant eg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ggs are symbolic of the beginning of lif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Logical connection between visible birth (hatching eggs) and universe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osmic egg is typically silver or gold, like the sun or mo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Chinese, Finnish, Indian, Japane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Picture 6" descr="age_ofthe_earth"/>
          <p:cNvPicPr/>
          <p:nvPr/>
        </p:nvPicPr>
        <p:blipFill>
          <a:blip r:embed="rId1">
            <a:lum bright="-10000"/>
          </a:blip>
          <a:stretch/>
        </p:blipFill>
        <p:spPr>
          <a:xfrm>
            <a:off x="228600" y="19044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Creation by Division </a:t>
            </a:r>
            <a:br>
              <a:rPr sz="4000"/>
            </a:b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of Primordial Unity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457200" y="2332080"/>
            <a:ext cx="8229600" cy="3535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reaking of the Cosmic Egg or the separation of cosmic parts from one another to make the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n many of these myths there is a newer god who must separate the “parents” to create the new 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Egyptian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9" name="Picture 6" descr="astronomy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from Chao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2437920"/>
            <a:ext cx="8229600" cy="3429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“</a:t>
            </a: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Out of Chaos…”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haos is the Greek word for primal voi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Chaos is often seen as a swirling mass of nothingness, out of which the Creator(s) craft the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Greek, Babylonian, Japanese, etc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2" name="Picture 5" descr="information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by Emerg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457200" y="2209680"/>
            <a:ext cx="82296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ostly Native America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Involves the emergence of the people from an underworl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Underworld is typically seen as a “world womb” where all things are gestated until birth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5" name="Picture 5" descr="dinosaur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Creation from Ancestor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2590560"/>
            <a:ext cx="8229600" cy="2514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This belief is that a prior people created the univers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Australian aborigines believed that their ancestors dreamed the world into existenc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7" name="Picture 5" descr="astronomy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Essential question: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4479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 algn="ctr">
              <a:spcBef>
                <a:spcPts val="10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How can literature influence cultural beliefs and social perception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8" name="Picture 5" descr="biblical"/>
          <p:cNvPicPr/>
          <p:nvPr/>
        </p:nvPicPr>
        <p:blipFill>
          <a:blip r:embed="rId1"/>
          <a:stretch/>
        </p:blipFill>
        <p:spPr>
          <a:xfrm>
            <a:off x="304920" y="152280"/>
            <a:ext cx="8610480" cy="6458040"/>
          </a:xfrm>
          <a:prstGeom prst="rect">
            <a:avLst/>
          </a:prstGeom>
          <a:ln w="0">
            <a:noFill/>
          </a:ln>
        </p:spPr>
      </p:pic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3805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bbe0e3"/>
                </a:solidFill>
                <a:latin typeface="Arial"/>
              </a:rPr>
              <a:t>Creation in Scienc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457200" y="2286000"/>
            <a:ext cx="8229600" cy="3657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any creation theories in modern science have the myth of the beginning-less beginning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Scientists theorize that something existed before existence as a basis for the cosmo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Loosely called my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Big-Bang Theory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1" name="Picture 5" descr="age_ofthe_earth"/>
          <p:cNvPicPr/>
          <p:nvPr/>
        </p:nvPicPr>
        <p:blipFill>
          <a:blip r:embed="rId1">
            <a:lum bright="-20000"/>
          </a:blip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304560" y="274320"/>
            <a:ext cx="83818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Archetypes within creation myths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Character archetype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Look for common character/deity role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Numbers as symbol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Often Creation myths use numerology relevant to the cultur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Anima/animus rol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Male/Female gender roles/expectations defin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bbe0e3"/>
                </a:solidFill>
                <a:latin typeface="Arial"/>
              </a:rPr>
              <a:t>Cultural and moral values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bbe0e3"/>
                </a:solidFill>
                <a:latin typeface="Arial"/>
              </a:rPr>
              <a:t>The ‘folk’ portions of the myths.  Local instruction and behavio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4" name="Picture 5" descr="human_origins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What are you going to do with all that knowledge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800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You will create a culture around which you will build your mythology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Be cautious and thoughtful in your process, this culture must be viable for all forms of myth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2400" spc="-1" strike="noStrike">
                <a:solidFill>
                  <a:srgbClr val="000000"/>
                </a:solidFill>
                <a:latin typeface="Arial"/>
              </a:rPr>
              <a:t>Important elements to document: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Environment – geography, weather, wildlif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ra-Cultural relations – gender, politics, pow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Inter-Cultural relations – other cultures that relate directly to your own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Cultural behavior – violent/pacifist, hunting/agricultural, diplomacy/conflic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37" name="Picture 4" descr="fossils"/>
          <p:cNvPicPr/>
          <p:nvPr/>
        </p:nvPicPr>
        <p:blipFill>
          <a:blip r:embed="rId1"/>
          <a:stretch/>
        </p:blipFill>
        <p:spPr>
          <a:xfrm>
            <a:off x="380880" y="285840"/>
            <a:ext cx="8382240" cy="6286320"/>
          </a:xfrm>
          <a:prstGeom prst="rect">
            <a:avLst/>
          </a:prstGeom>
          <a:ln w="0">
            <a:noFill/>
          </a:ln>
        </p:spPr>
      </p:pic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onstruct a creation myth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r myth must be based on the specific and unique elements of your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use metaphors to help your readers understand your culture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You must demonstrate your understanding of archetypes in the structure and elements of your myth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0" name="Picture 5" descr="fossil_record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Your culture’s creation myth must: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904760"/>
            <a:ext cx="8229600" cy="3809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state of existence before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monstrate your understanding of at least one creation archetype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Identify and define your creator(s).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Establish your cast of charact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Describe the state of existence after creation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llow a general narrative format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43" name="Picture 5" descr="age_ofthe_earth"/>
          <p:cNvPicPr/>
          <p:nvPr/>
        </p:nvPicPr>
        <p:blipFill>
          <a:blip r:embed="rId1">
            <a:lum bright="20000"/>
          </a:blip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Tips to remembe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213336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Keep your creation myth appropriate to the culture you have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Your culture myth needs to fit the geography, scientific timeframe, and the world you have creat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Be creative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and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logical. Your culture is primitive and has had no exposure to our often cynical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0" name="Picture 4" descr="information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Learning Target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Before we conclude this topic of study, I will be able to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Describe the cultural influences of creation my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Identify archetypal features of creation myth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Compare and contrast creation myths originating from diverse world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Write an original creation myth that includes common archetypal fea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Present my creation myth to my peer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" name="Picture 4" descr="4b-Adam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228600"/>
            <a:ext cx="8686800" cy="6362640"/>
          </a:xfrm>
          <a:prstGeom prst="rect">
            <a:avLst/>
          </a:prstGeom>
          <a:ln w="0">
            <a:noFill/>
          </a:ln>
        </p:spPr>
      </p:pic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880" y="6854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yth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a traditional or legendary story, usually concerning some being or hero or event, with or without a determinable basis of fact or a natural explanation, especially one that is concerned with deities or demigods and explains some practice, rite, or phenomenon of nature.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394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ource: http://dictionary.reference.com/browse/myth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6" descr="dinosaurs"/>
          <p:cNvPicPr/>
          <p:nvPr/>
        </p:nvPicPr>
        <p:blipFill>
          <a:blip r:embed="rId1"/>
          <a:stretch/>
        </p:blipFill>
        <p:spPr>
          <a:xfrm>
            <a:off x="228600" y="152280"/>
            <a:ext cx="8534520" cy="6400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Why do we need creation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8288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The existence of the world must be explained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According to Joseph Campbell, “The question being answered is not who made the world or how, but rather the need for  the presence of a creator being visible in all things.”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9" name="Picture 4" descr="biblical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be0e3"/>
                </a:solidFill>
                <a:latin typeface="Arial"/>
              </a:rPr>
              <a:t>Metaphors in myths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457200" y="190512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bbe0e3"/>
                </a:solidFill>
                <a:latin typeface="Arial"/>
              </a:rPr>
              <a:t>Metaphors are used in myths to explain higher concept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any of the stories of mystical monsters were merely representations of the fear conquered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taphors need to fit their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bbe0e3"/>
                </a:solidFill>
                <a:latin typeface="Arial"/>
              </a:rPr>
              <a:t>Metaphors should be universally acknowledged images.  Or at least, they should be easily recognizable to people belonging to a specific culture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2" name="Picture 4" descr="4b-Adam"/>
          <p:cNvPicPr/>
          <p:nvPr/>
        </p:nvPicPr>
        <p:blipFill>
          <a:blip r:embed="rId1">
            <a:lum bright="40000"/>
          </a:blip>
          <a:stretch/>
        </p:blipFill>
        <p:spPr>
          <a:xfrm>
            <a:off x="228600" y="495360"/>
            <a:ext cx="8686800" cy="5676840"/>
          </a:xfrm>
          <a:prstGeom prst="rect">
            <a:avLst/>
          </a:prstGeom>
          <a:ln w="0">
            <a:noFill/>
          </a:ln>
        </p:spPr>
      </p:pic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53316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Arial"/>
              </a:rPr>
              <a:t>Metaphor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98108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A metaphor, as defined in our glossary, is a figure of speech in which an implied comparison is made between two unlike things that actually have something important in common. The word </a:t>
            </a:r>
            <a:r>
              <a:rPr b="1" i="1" lang="en-US" sz="2800" spc="-1" strike="noStrike">
                <a:solidFill>
                  <a:srgbClr val="000000"/>
                </a:solidFill>
                <a:latin typeface="Arial"/>
              </a:rPr>
              <a:t>metaphor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 itself is a metaphor, coming from a Greek word meaning to "transfer" or "carry across." Metaphors "carry" meaning from one word, image, or idea to another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767676"/>
            </a:gs>
            <a:gs pos="100000">
              <a:srgbClr val="ffffff"/>
            </a:gs>
          </a:gsLst>
          <a:lin ang="54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65" name="Picture 6" descr="information"/>
          <p:cNvPicPr/>
          <p:nvPr/>
        </p:nvPicPr>
        <p:blipFill>
          <a:blip r:embed="rId1"/>
          <a:stretch/>
        </p:blipFill>
        <p:spPr>
          <a:xfrm>
            <a:off x="304920" y="228600"/>
            <a:ext cx="8534160" cy="6400800"/>
          </a:xfrm>
          <a:prstGeom prst="rect">
            <a:avLst/>
          </a:prstGeom>
          <a:ln w="0">
            <a:noFill/>
          </a:ln>
        </p:spPr>
      </p:pic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456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bbe0e3"/>
                </a:solidFill>
                <a:latin typeface="Arial"/>
              </a:rPr>
              <a:t>How can metaphors help us understand creation myths?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2057400"/>
            <a:ext cx="8229600" cy="4038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etaphors are relevant to the geography around which the culture has developed.</a:t>
            </a:r>
            <a:r>
              <a:rPr b="1" lang="en-US" sz="2400" spc="-1" strike="noStrike">
                <a:solidFill>
                  <a:srgbClr val="bbe0e3"/>
                </a:solidFill>
                <a:latin typeface="Arial"/>
              </a:rPr>
              <a:t> 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bbe0e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bbe0e3"/>
                </a:solidFill>
                <a:latin typeface="Arial"/>
              </a:rPr>
              <a:t>Japanese myths often focus on the ocean, while myths of the Midwest Indian tribes do not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Clr>
                <a:srgbClr val="bbe0e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bbe0e3"/>
                </a:solidFill>
                <a:latin typeface="Arial"/>
              </a:rPr>
              <a:t>Metaphors define the roles of men, women, animals, and possibly the interrelations among diverse cultur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4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10-07T14:22:55Z</dcterms:created>
  <dc:creator>hamblin49</dc:creator>
  <dc:description/>
  <dc:language>en-US</dc:language>
  <cp:lastModifiedBy>Timothy Jarman</cp:lastModifiedBy>
  <dcterms:modified xsi:type="dcterms:W3CDTF">2012-01-29T23:09:01Z</dcterms:modified>
  <cp:revision>11</cp:revision>
  <dc:subject/>
  <dc:title>CREATION</dc:title>
</cp:coreProperties>
</file>